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4.png" ContentType="image/png"/>
  <Override PartName="/ppt/media/image18.jpeg" ContentType="image/jpeg"/>
  <Override PartName="/ppt/media/image21.png" ContentType="image/png"/>
  <Override PartName="/ppt/media/image4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342-B683-4C3A-AD3D-EEBAB79D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694-0547-4542-AB9B-C7A93CD1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EFA-64F7-4911-B0BB-BC4AFE7C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C6C-BACE-451A-B678-5B97DDF3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B607-9753-4213-9486-F1569BDB1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9EB3-0513-4817-B453-DBD1BD7A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C4D2-0ACB-41CB-9EE3-823B053C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A489-2EE5-436D-8592-7908026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D3C8-A1B9-47B4-8C9C-F528CC19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E8CE-EC22-4EB7-A0E6-65B3C1AB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F0D7-7EC0-4146-879D-8AD7FDDF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B516-9A7C-4853-931A-39DCACC1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DE2-A47A-43BF-9A7F-E62C12D5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EB6A-10EF-4423-842C-10270F8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685E-E024-4B2E-829A-1DAD830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B2B-5365-494D-911A-44BA109C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900F-57D6-4E62-99DE-A2AF7CC3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7C9E-C30B-4661-B006-B7BF3194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EEAC-DD1C-4A66-8243-FC78FFF9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D32-48C0-40D6-ABC3-CAE84E47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AA5-FD52-41F2-8342-90923B1C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17B-DFD9-496D-A2BA-D93CE596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C92B-019B-427B-BF89-2C51EEA3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9DE4-19F9-4213-AF82-6F335F3F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CA29-5A9E-44F7-9EA0-4A1AE74A83C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9CA2-C6F9-4CD1-A002-067BF77EEE8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8600" spc="-1" strike="noStrike">
                <a:solidFill>
                  <a:srgbClr val="dbf5f9"/>
                </a:solidFill>
                <a:latin typeface="Calibri"/>
                <a:cs typeface="Traditional Arabic"/>
              </a:rPr>
              <a:t>بسم الله الرحمن الرحيم</a:t>
            </a:r>
            <a:endParaRPr b="0" lang="en-US" sz="86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surgicalnotes.co.uk/files/images/liverposterior.png"/>
          <p:cNvPicPr/>
          <p:nvPr/>
        </p:nvPicPr>
        <p:blipFill>
          <a:blip r:embed="rId2"/>
          <a:stretch/>
        </p:blipFill>
        <p:spPr>
          <a:xfrm>
            <a:off x="684360" y="260280"/>
            <a:ext cx="7920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475776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Quadrate lob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571760"/>
            <a:ext cx="4281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is a rectangular part of the inferior surface of liver. It is bounded by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inferior border of liver (inf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porta hepatis (pos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gall bladder fossa (on the righ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-fissure for ligam.teres (on left side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*It is related to: transverse colon (ant), pylorus&amp; 1st part of duodenum (middle) and lesser omentum (post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7" name="Picture 5" descr="C:\Documents and Settings\Main\Desktop\2\5.jpg"/>
          <p:cNvPicPr/>
          <p:nvPr/>
        </p:nvPicPr>
        <p:blipFill>
          <a:blip r:embed="rId2"/>
          <a:stretch/>
        </p:blipFill>
        <p:spPr>
          <a:xfrm>
            <a:off x="4786200" y="228600"/>
            <a:ext cx="4000680" cy="3200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Documents and Settings\Main\Desktop\2\6.jpg"/>
          <p:cNvPicPr/>
          <p:nvPr/>
        </p:nvPicPr>
        <p:blipFill>
          <a:blip r:embed="rId3"/>
          <a:stretch/>
        </p:blipFill>
        <p:spPr>
          <a:xfrm>
            <a:off x="4640400" y="3786120"/>
            <a:ext cx="4289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Porta hepati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3840" y="1357200"/>
            <a:ext cx="4281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forms the hilum of the liver. Anteriorly, it is bounded by quadrate lobe and posteriorly, by caudate lobe and proces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Constantia"/>
              </a:rPr>
              <a:t>Structures passing through porta hepati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. Hepatic ducts: ant. In posi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. Hepatic artery: intermediate in posi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. Portal vein: posterior in positi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. Lymphatics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It gives attachment to lesser omentum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Picture 5" descr="C:\Documents and Settings\Main\Desktop\2\7.jpg"/>
          <p:cNvPicPr/>
          <p:nvPr/>
        </p:nvPicPr>
        <p:blipFill>
          <a:blip r:embed="rId2"/>
          <a:stretch/>
        </p:blipFill>
        <p:spPr>
          <a:xfrm>
            <a:off x="4643280" y="1268280"/>
            <a:ext cx="4380120" cy="291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t3.gstatic.com/images?q=tbn:ANd9GcSlzP3EPAyEwjArr5zttK79M2c4H8pxbcw8B9aFKcXMY2zpF0G-"/>
          <p:cNvPicPr/>
          <p:nvPr/>
        </p:nvPicPr>
        <p:blipFill>
          <a:blip r:embed="rId3"/>
          <a:stretch/>
        </p:blipFill>
        <p:spPr>
          <a:xfrm>
            <a:off x="5292720" y="4365720"/>
            <a:ext cx="31669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C:\Documents and Settings\Main\Desktop\liver\liverDiagram2.jpg"/>
          <p:cNvPicPr/>
          <p:nvPr/>
        </p:nvPicPr>
        <p:blipFill>
          <a:blip r:embed="rId2"/>
          <a:stretch/>
        </p:blipFill>
        <p:spPr>
          <a:xfrm>
            <a:off x="611280" y="333360"/>
            <a:ext cx="78483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Blood supply of liv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341360"/>
            <a:ext cx="40384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receives blood from two sourc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Hepatic arterie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hich divides into right , left branch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Portal vein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hich divides into right , left branche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venous drainag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s by three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hepatic veins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which terminate in the IVC( right, left, middle)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6" name="Picture 5" descr="C:\Documents and Settings\Main\Desktop\2\13.jpg"/>
          <p:cNvPicPr/>
          <p:nvPr/>
        </p:nvPicPr>
        <p:blipFill>
          <a:blip r:embed="rId2"/>
          <a:stretch/>
        </p:blipFill>
        <p:spPr>
          <a:xfrm>
            <a:off x="4518000" y="1928880"/>
            <a:ext cx="43592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nstantia"/>
              </a:rPr>
              <a:t>Lymphatic drainage of liver: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liver is drained by portal lymph nod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n into the coeliac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are area of the liver drains into subphrenic lymph nodes, or posterior mediastinal lymph nod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ff00"/>
                </a:solidFill>
                <a:uFillTx/>
                <a:latin typeface="Calibri"/>
              </a:rPr>
              <a:t>Peritoneal connections 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28760" y="1642680"/>
            <a:ext cx="4038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1- Falciform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2- Upper layer of coronary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3- Lower layer of coronary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4- Right triangular ligament. Lower triangular ligament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5- Lesser omentum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Picture 2" descr="C:\Documents and Settings\Main\Desktop\liver\20061102_liver.jpg"/>
          <p:cNvPicPr/>
          <p:nvPr/>
        </p:nvPicPr>
        <p:blipFill>
          <a:blip r:embed="rId2"/>
          <a:stretch/>
        </p:blipFill>
        <p:spPr>
          <a:xfrm>
            <a:off x="4140360" y="1989000"/>
            <a:ext cx="5003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3300"/>
                </a:solidFill>
                <a:uFillTx/>
                <a:latin typeface="Calibri"/>
              </a:rPr>
              <a:t>Embryonic reminants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3840" y="1196640"/>
            <a:ext cx="42814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Ligamentum teres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connects the umblicus with the left branch of portal vein. It represents the obliterated umblical vein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Ligamentum venosum: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connects the left branch of portal vein with the IVC. . It represents the obliterated ductus venosu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3" name="Picture 5" descr="C:\Documents and Settings\Main\Desktop\2\12.jpg"/>
          <p:cNvPicPr/>
          <p:nvPr/>
        </p:nvPicPr>
        <p:blipFill>
          <a:blip r:embed="rId2"/>
          <a:stretch/>
        </p:blipFill>
        <p:spPr>
          <a:xfrm>
            <a:off x="4572000" y="1498680"/>
            <a:ext cx="40719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3672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Constantia"/>
              </a:rPr>
              <a:t>Areas of the liver not covered by peritoneum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Bare area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Groove for IV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Porta hepatic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4- Fossa of gall bladd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5- Fissures for ligamentum teres and for ligamentum venos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5" name="Picture 695" descr="http://www.newsperuvian.com/wp-content/uploads/2011/05/liver-anatomy-3.jpg"/>
          <p:cNvPicPr/>
          <p:nvPr/>
        </p:nvPicPr>
        <p:blipFill>
          <a:blip r:embed="rId2"/>
          <a:stretch/>
        </p:blipFill>
        <p:spPr>
          <a:xfrm>
            <a:off x="3851280" y="476280"/>
            <a:ext cx="5292720" cy="61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dbf5f9"/>
                </a:solidFill>
                <a:uFillTx/>
                <a:latin typeface="Calibri"/>
              </a:rPr>
              <a:t>Hepatic segmentation (surgical)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2920" y="1214280"/>
            <a:ext cx="4068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depends on the vascular distribution to the liver (according to the venous drainage by the hepatic veins).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t is divided into right and left lobes by an imaginary line passing through IVC and fossa of gall bladder. This includes caudate, quadrate lobes as parts of left lobe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8" name="Content Placeholder 6" descr="http://www.nucmedinfo.com/Anatomy/Liversegments.gif"/>
          <p:cNvPicPr/>
          <p:nvPr/>
        </p:nvPicPr>
        <p:blipFill>
          <a:blip r:embed="rId2"/>
          <a:stretch/>
        </p:blipFill>
        <p:spPr>
          <a:xfrm>
            <a:off x="5364000" y="2133720"/>
            <a:ext cx="345780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2"/>
          <a:stretch/>
        </p:blipFill>
        <p:spPr>
          <a:xfrm>
            <a:off x="652320" y="1628640"/>
            <a:ext cx="84916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00"/>
                </a:solidFill>
                <a:uFillTx/>
                <a:latin typeface="Calibri"/>
              </a:rPr>
              <a:t>Surface anatomy of liver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1483920"/>
            <a:ext cx="4500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Superior surfac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 from the 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eft intercostal space in the mid clavicular line to  the upper border of right 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stal cartilages in right lateral plane, to the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b in mid axillary lin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Right border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:from right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-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bs (mid axill. line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Fundus of gall bladder: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ip of 9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costal cartilage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6786720" y="271476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UPC"/>
                <a:ea typeface="AngsanaUPC"/>
              </a:rPr>
              <a:t>Lt 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ngsanaUPC"/>
                <a:ea typeface="AngsanaUPC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ngsanaUPC"/>
                <a:ea typeface="AngsanaUPC"/>
              </a:rPr>
              <a:t> space,midaxillary l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http://bookdome.com/health/anatomy/Surface-Markings-Human-Body/images/The-Liver-Anterior-Abdominal-Wall-Etc.jpg"/>
          <p:cNvPicPr/>
          <p:nvPr/>
        </p:nvPicPr>
        <p:blipFill>
          <a:blip r:embed="rId2"/>
          <a:stretch/>
        </p:blipFill>
        <p:spPr>
          <a:xfrm>
            <a:off x="4986360" y="1557360"/>
            <a:ext cx="3600360" cy="51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511280" y="1386000"/>
          <a:ext cx="6095880" cy="406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1280" y="1386000"/>
                    <a:ext cx="609588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428400"/>
            <a:ext cx="81439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Site: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lies under the diaphragm, in the right hypochondrium, epigastrium and left hypochonderi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nstantia"/>
              </a:rPr>
              <a:t>Shape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: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It is wedge shaped. It has five surfaces: superior, inferior, anterior, posterior and right surfac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8" name="Picture 2" descr="C:\Documents and Settings\Main\Desktop\liver\120858-main_Full.jpg"/>
          <p:cNvPicPr/>
          <p:nvPr/>
        </p:nvPicPr>
        <p:blipFill>
          <a:blip r:embed="rId2"/>
          <a:stretch/>
        </p:blipFill>
        <p:spPr>
          <a:xfrm>
            <a:off x="182520" y="2786040"/>
            <a:ext cx="4203720" cy="37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Documents and Settings\Main\Desktop\2\2.jpg"/>
          <p:cNvPicPr/>
          <p:nvPr/>
        </p:nvPicPr>
        <p:blipFill>
          <a:blip r:embed="rId3"/>
          <a:stretch/>
        </p:blipFill>
        <p:spPr>
          <a:xfrm>
            <a:off x="4572000" y="3214800"/>
            <a:ext cx="43578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ffff00"/>
                </a:solidFill>
                <a:uFillTx/>
                <a:latin typeface="Calibri"/>
              </a:rPr>
              <a:t>Lobes of the liver (4)</a:t>
            </a: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85480" y="1125000"/>
            <a:ext cx="4430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is formed of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righ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arge and </a:t>
            </a:r>
            <a:r>
              <a:rPr b="0" lang="en-US" sz="2600" spc="-1" strike="noStrike">
                <a:solidFill>
                  <a:srgbClr val="ff3300"/>
                </a:solidFill>
                <a:latin typeface="Constantia"/>
              </a:rPr>
              <a:t>left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small lobes by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. The attachment of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falciform ligament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ant. and superior surface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. Fissure fo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lig. Venosum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post. surfac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. Fissure for </a:t>
            </a: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lig. teres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on inferior surfac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t also contains the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cauda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and </a:t>
            </a:r>
            <a:r>
              <a:rPr b="1" lang="en-US" sz="2600" spc="-1" strike="noStrike">
                <a:solidFill>
                  <a:srgbClr val="ff3300"/>
                </a:solidFill>
                <a:latin typeface="Constantia"/>
              </a:rPr>
              <a:t>quadrate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lob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2" name="Picture 2" descr="C:\Documents and Settings\Main\Desktop\liver\liver-gallbladder01.jpg"/>
          <p:cNvPicPr/>
          <p:nvPr/>
        </p:nvPicPr>
        <p:blipFill>
          <a:blip r:embed="rId2"/>
          <a:stretch/>
        </p:blipFill>
        <p:spPr>
          <a:xfrm>
            <a:off x="4859280" y="1268280"/>
            <a:ext cx="410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3300"/>
                </a:solidFill>
                <a:uFillTx/>
                <a:latin typeface="Calibri"/>
              </a:rPr>
              <a:t>Relations of the liver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3840" y="1499760"/>
            <a:ext cx="42814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diaphragm and base of right lung and pleura are related to the superior, anterior and right surfaces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Anterior surface 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is also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elated to Ant. Abd. Wall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2-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Superior surface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also related to heart, pericardium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-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1" lang="en-US" sz="2600" spc="-1" strike="noStrike" u="sng">
                <a:solidFill>
                  <a:srgbClr val="ffff00"/>
                </a:solidFill>
                <a:uFillTx/>
                <a:latin typeface="Constantia"/>
              </a:rPr>
              <a:t>Right surface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s also related to 7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to 1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rib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5" name="Picture 5" descr="C:\Documents and Settings\Main\Desktop\2\3.jpg"/>
          <p:cNvPicPr/>
          <p:nvPr/>
        </p:nvPicPr>
        <p:blipFill>
          <a:blip r:embed="rId2"/>
          <a:stretch/>
        </p:blipFill>
        <p:spPr>
          <a:xfrm>
            <a:off x="4433760" y="2214720"/>
            <a:ext cx="46310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48780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33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840" y="189000"/>
            <a:ext cx="87505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12760" indent="-21276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Constantia"/>
              </a:rPr>
              <a:t>posterior surface of the liv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12760" indent="-212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ormed by: bare area, groove for IVC, caudate lobe, fissure for ligamentum venosum and oesophageal notch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12760" indent="-212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Constantia"/>
              </a:rPr>
              <a:t>Bare area of liver: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 triangular area related directely to the diaphragm , its base is formed by the groove for IVC, its apex is formed by right triangular ligament, its sides are the two layers of coronary ligament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8" name="Picture 5" descr="C:\Documents and Settings\Main\Desktop\2\4.jpg"/>
          <p:cNvPicPr/>
          <p:nvPr/>
        </p:nvPicPr>
        <p:blipFill>
          <a:blip r:embed="rId2"/>
          <a:stretch/>
        </p:blipFill>
        <p:spPr>
          <a:xfrm>
            <a:off x="1403280" y="2852640"/>
            <a:ext cx="6408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http://www.newsperuvian.com/wp-content/uploads/2011/05/liver-anatomy-3.jpg"/>
          <p:cNvPicPr/>
          <p:nvPr/>
        </p:nvPicPr>
        <p:blipFill>
          <a:blip r:embed="rId2"/>
          <a:stretch/>
        </p:blipFill>
        <p:spPr>
          <a:xfrm>
            <a:off x="1403280" y="189000"/>
            <a:ext cx="6337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Main\Desktop\liver\liverDiagram1.jpg"/>
          <p:cNvPicPr/>
          <p:nvPr/>
        </p:nvPicPr>
        <p:blipFill>
          <a:blip r:embed="rId1"/>
          <a:stretch/>
        </p:blipFill>
        <p:spPr>
          <a:xfrm>
            <a:off x="1103400" y="1077840"/>
            <a:ext cx="64688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43440"/>
            <a:ext cx="8229600" cy="748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88640"/>
            <a:ext cx="8640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Constantia"/>
              </a:rPr>
              <a:t>Inferior surface</a:t>
            </a:r>
            <a:r>
              <a:rPr b="0" lang="en-US" sz="3200" spc="-1" strike="noStrike">
                <a:solidFill>
                  <a:srgbClr val="ff330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it shows the following features and impressions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a. Gastric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b. Fissure for ligamentum teres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c. Quadrate lob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d. Fossa for gall bladder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e. Duodenal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f. Renal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g. Supra renal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168840" indent="-168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h. Colic impression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3" name="Content Placeholder 5" descr="C:\Documents and Settings\Main\Desktop\2\4.jpg"/>
          <p:cNvPicPr/>
          <p:nvPr/>
        </p:nvPicPr>
        <p:blipFill>
          <a:blip r:embed="rId2"/>
          <a:stretch/>
        </p:blipFill>
        <p:spPr>
          <a:xfrm>
            <a:off x="3780000" y="1989000"/>
            <a:ext cx="5364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30T18:45:38Z</dcterms:created>
  <dc:creator>Main</dc:creator>
  <dc:description/>
  <dc:language>en-US</dc:language>
  <cp:lastModifiedBy>Prof. Dr. Shawky</cp:lastModifiedBy>
  <dcterms:modified xsi:type="dcterms:W3CDTF">2014-04-21T18:29:02Z</dcterms:modified>
  <cp:revision>60</cp:revision>
  <dc:subject/>
  <dc:title>Anatomy of liver</dc:title>
</cp:coreProperties>
</file>